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1DF-732B-4B76-B06E-5BF1F319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E6C-6A9F-49BE-BDB1-AE3D89B9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944-1ACB-465A-B606-8E3E4B9F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90F-F7B4-4152-B311-F691BDAB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ECE-7C9E-4A2D-A46D-ED76BADE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F45-75A7-4E3B-8DB0-6CF3E453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385-3217-4A78-8940-D8CD884A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108-3161-42E3-91AC-C6464E3A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4F8-72B5-4D64-BB15-146793FD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F80-5333-46FC-A7D2-5B251F32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66A-7B62-4830-A154-25DB6186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BB4-45E0-438A-8FC9-31C3DD44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673E-D1E6-43D6-B117-88AE9DD1377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a peine de mor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41920" y="824040"/>
            <a:ext cx="3466800" cy="5209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20087400">
            <a:off x="755640" y="206028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cf6f6"/>
                </a:solidFill>
                <a:latin typeface="Comic Sans MS"/>
              </a:rPr>
              <a:t>Why does Camus decide that Meursault must die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a peine de mor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841920" y="824040"/>
            <a:ext cx="3466800" cy="5209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19472400">
            <a:off x="638280" y="26427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cf6f6"/>
                </a:solidFill>
                <a:latin typeface="Comic Sans MS"/>
              </a:rPr>
              <a:t>Why ‘une place publique’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a peine de mor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41920" y="824040"/>
            <a:ext cx="3466800" cy="5209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19472400">
            <a:off x="797040" y="2590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cf6f6"/>
                </a:solidFill>
                <a:latin typeface="Comic Sans MS"/>
              </a:rPr>
              <a:t>Why ‘au nom du peuple français’ 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a peine de mor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41920" y="824040"/>
            <a:ext cx="3466800" cy="5209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19472400">
            <a:off x="797040" y="2590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cf6f6"/>
                </a:solidFill>
                <a:latin typeface="Comic Sans MS"/>
              </a:rPr>
              <a:t>Why is Meursault the last to know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badgers</cp:lastModifiedBy>
  <dcterms:modified xsi:type="dcterms:W3CDTF">2006-10-12T07:54:51Z</dcterms:modified>
  <cp:revision>8</cp:revision>
  <dc:subject/>
  <dc:title>Les thèmes du récit</dc:title>
</cp:coreProperties>
</file>